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EB72-478B-4F7F-9EEC-7105DCAE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80AB-5029-48AB-A027-77F55E68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ED5A-C720-40EB-A60C-4218C907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3F8D-4373-49AB-B475-81EE3176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B7BA-4D2D-464C-8704-5989AE97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EF90-B1B3-4279-B04F-37A461FD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3DC1-8A61-49F4-922B-CA03C01F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0DE-9928-40FA-B51E-79AE6C07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1B8-DF2D-4BB6-B248-EE1CAB51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8A60-A6CF-4042-96BA-A8918BF2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3EA-0E23-4450-869B-1BE5EFC0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BB75-07F2-426F-B8DD-366658EA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400E-CBAF-472B-A352-D6B5D51CE8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OSTOPEK IMENO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2800" y="630360"/>
            <a:ext cx="930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OSTOPEK IMENOVANJA - PRAVNA PODLAG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089080" y="2165400"/>
            <a:ext cx="80661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123. in 124. člen Uredbe (EU) št. 1303/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3. člen Uredbe (EU) št. 1011/2014 (Priloga II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Zakon o izvrševanju proračuna RS za leti 2014 in 2015 (predlog  2016 in 201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lovenska ured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mernice 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avodila 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10920" y="67788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SISTEM UPRAVLJANJA IN NADZOR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870000" y="2381040"/>
            <a:ext cx="5297400" cy="27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1 OP = 1 OSU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trije nivoji (OU, PO in I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ločenost funkci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ČASOVNA DINAMIKA – 1. DEL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14720" y="1797120"/>
            <a:ext cx="93088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OVEMBER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zaključen OSUN za 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regled OSUN-ov za 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riprava sporazumov OU-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DECEMBER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prejem Strategije za boj proti goljufijam na področju EK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osredovanje OSUN-ov za na 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ČASOVNA DINAMIKA – 2. DEL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079720" y="1878120"/>
            <a:ext cx="93088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ANUAR – JUNIJ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opolnitve OSUN-ov za OU, MF-CA in 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ov informacijski si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prejem ARACH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istem priprave izjave o upravljanju in letnega povzet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otrditev končnega OSUN s strani 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osredovanje mnenja na 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65200" y="1706400"/>
            <a:ext cx="92613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cerne.tanja@gov.s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12:05:15Z</dcterms:created>
  <dc:creator>Tanja Černe</dc:creator>
  <dc:description/>
  <dc:language>en-US</dc:language>
  <cp:lastModifiedBy>Tanja Černe</cp:lastModifiedBy>
  <dcterms:modified xsi:type="dcterms:W3CDTF">2015-11-08T13:01:32Z</dcterms:modified>
  <cp:revision>6</cp:revision>
  <dc:subject/>
  <dc:title>POSTOPEK IMENOVANJA</dc:title>
</cp:coreProperties>
</file>